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7186-560E-45DE-BAA5-8567064CB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5FAA-743B-481F-8010-0B2DDA21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A40C-E8CA-4DE4-8E85-BCD905C94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C431-417F-46F9-B72A-6C9DBAFA0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6A97-0C40-449C-9CA7-6C0A26ED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C14D-A6F1-4D61-B79F-D9BE6C12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E297-A949-4B65-95FE-62EDB099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5F53-EAB6-4479-A964-D0611D75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6631-109E-4B85-B2B8-BB230F2C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8894-D044-40C4-8727-52A1FE23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D1CB-9916-45A5-B48F-7B9C3743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A5B0-9D15-4198-8764-09757D6E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3EA4-8771-48D1-86FE-2AB53E608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u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dule 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96080" y="380880"/>
            <a:ext cx="914400" cy="914400"/>
          </a:xfrm>
          <a:prstGeom prst="ellipse">
            <a:avLst/>
          </a:prstGeom>
          <a:solidFill>
            <a:srgbClr val="de1a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bxr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7480" y="548640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00800" y="2057400"/>
            <a:ext cx="914400" cy="914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5" idx="7"/>
            <a:endCxn id="43" idx="3"/>
          </p:cNvCxnSpPr>
          <p:nvPr/>
        </p:nvCxnSpPr>
        <p:spPr>
          <a:xfrm flipV="1">
            <a:off x="7181640" y="1161720"/>
            <a:ext cx="648360" cy="1028880"/>
          </a:xfrm>
          <a:prstGeom prst="straightConnector1">
            <a:avLst/>
          </a:prstGeom>
          <a:ln w="31680">
            <a:solidFill>
              <a:srgbClr val="339966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1143000" y="251460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5" idx="6"/>
            <a:endCxn id="44" idx="0"/>
          </p:cNvCxnSpPr>
          <p:nvPr/>
        </p:nvCxnSpPr>
        <p:spPr>
          <a:xfrm>
            <a:off x="7314840" y="2514240"/>
            <a:ext cx="610200" cy="2972520"/>
          </a:xfrm>
          <a:prstGeom prst="straightConnector1">
            <a:avLst/>
          </a:prstGeom>
          <a:ln w="31680">
            <a:solidFill>
              <a:srgbClr val="339966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7" idx="7"/>
            <a:endCxn id="45" idx="1"/>
          </p:cNvCxnSpPr>
          <p:nvPr/>
        </p:nvCxnSpPr>
        <p:spPr>
          <a:xfrm flipV="1">
            <a:off x="1923840" y="2190240"/>
            <a:ext cx="4610520" cy="45792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5791320" y="3657600"/>
            <a:ext cx="91440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50" idx="7"/>
            <a:endCxn id="45" idx="3"/>
          </p:cNvCxnSpPr>
          <p:nvPr/>
        </p:nvCxnSpPr>
        <p:spPr>
          <a:xfrm flipH="1" flipV="1">
            <a:off x="6533640" y="2837880"/>
            <a:ext cx="38880" cy="952920"/>
          </a:xfrm>
          <a:prstGeom prst="straightConnector1">
            <a:avLst/>
          </a:prstGeom>
          <a:ln w="31680">
            <a:solidFill>
              <a:srgbClr val="cc99ff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514600" y="4572000"/>
            <a:ext cx="914400" cy="9144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52" idx="0"/>
            <a:endCxn id="45" idx="2"/>
          </p:cNvCxnSpPr>
          <p:nvPr/>
        </p:nvCxnSpPr>
        <p:spPr>
          <a:xfrm flipV="1">
            <a:off x="2971440" y="2514240"/>
            <a:ext cx="3429720" cy="2057760"/>
          </a:xfrm>
          <a:prstGeom prst="straightConnector1">
            <a:avLst/>
          </a:prstGeom>
          <a:ln w="31680">
            <a:solidFill>
              <a:srgbClr val="80008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2743200" y="838080"/>
            <a:ext cx="91440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4" idx="6"/>
            <a:endCxn id="45" idx="0"/>
          </p:cNvCxnSpPr>
          <p:nvPr/>
        </p:nvCxnSpPr>
        <p:spPr>
          <a:xfrm>
            <a:off x="3657600" y="1294920"/>
            <a:ext cx="3201120" cy="762840"/>
          </a:xfrm>
          <a:prstGeom prst="straightConnector1">
            <a:avLst/>
          </a:prstGeom>
          <a:ln w="31680">
            <a:solidFill>
              <a:srgbClr val="33cccc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u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odul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FlyBase bibliography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ublication is linked to the journal in which it app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457200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24480" y="213372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u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9" idx="0"/>
            <a:endCxn id="60" idx="2"/>
          </p:cNvCxnSpPr>
          <p:nvPr/>
        </p:nvCxnSpPr>
        <p:spPr>
          <a:xfrm flipV="1">
            <a:off x="7009920" y="3047400"/>
            <a:ext cx="10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types of publications in Fly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u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n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eting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gsaw 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f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s art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itu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ctile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FlyBase bibliography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dn’t really work for eg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ersonal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aper published in a book published in a series of boo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24480" y="457200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13372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u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7" idx="0"/>
            <a:endCxn id="68" idx="2"/>
          </p:cNvCxnSpPr>
          <p:nvPr/>
        </p:nvCxnSpPr>
        <p:spPr>
          <a:xfrm flipV="1">
            <a:off x="7009920" y="3047400"/>
            <a:ext cx="10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pub relationships in ch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07200" y="533412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05480" y="3276720"/>
            <a:ext cx="1214640" cy="1214280"/>
          </a:xfrm>
          <a:prstGeom prst="diamond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_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26280" y="167652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2" idx="1"/>
            <a:endCxn id="71" idx="0"/>
          </p:cNvCxnSpPr>
          <p:nvPr/>
        </p:nvCxnSpPr>
        <p:spPr>
          <a:xfrm>
            <a:off x="6405480" y="3884760"/>
            <a:ext cx="588240" cy="14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72" idx="3"/>
            <a:endCxn id="71" idx="0"/>
          </p:cNvCxnSpPr>
          <p:nvPr/>
        </p:nvCxnSpPr>
        <p:spPr>
          <a:xfrm flipH="1">
            <a:off x="6992640" y="3884760"/>
            <a:ext cx="627840" cy="14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6019920" y="4343400"/>
            <a:ext cx="62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jf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391520" y="4343400"/>
            <a:ext cx="62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j f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72" idx="0"/>
            <a:endCxn id="73" idx="2"/>
          </p:cNvCxnSpPr>
          <p:nvPr/>
        </p:nvCxnSpPr>
        <p:spPr>
          <a:xfrm flipH="1" flipV="1">
            <a:off x="7011720" y="2590200"/>
            <a:ext cx="216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7010280" y="26668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lationship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533412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80" idx="3"/>
            <a:endCxn id="71" idx="1"/>
          </p:cNvCxnSpPr>
          <p:nvPr/>
        </p:nvCxnSpPr>
        <p:spPr>
          <a:xfrm>
            <a:off x="4723920" y="5790960"/>
            <a:ext cx="1583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4800600" y="52578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any type of publication (not just journal -&gt; paper) to be sto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wnside: its recursiv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4T16:46:27Z</dcterms:created>
  <dc:creator>William M. Gelbart</dc:creator>
  <dc:description/>
  <dc:language>en-US</dc:language>
  <cp:lastModifiedBy>William M. Gelbart</cp:lastModifiedBy>
  <dcterms:modified xsi:type="dcterms:W3CDTF">2003-09-14T22:24:53Z</dcterms:modified>
  <cp:revision>4</cp:revision>
  <dc:subject/>
  <dc:title>chado</dc:title>
</cp:coreProperties>
</file>